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7EF-908A-47F8-A86A-99932478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889-1D3F-432A-9013-DFC0393C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1EC-1291-4C8D-B4E4-0EC9E3BB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7F5-B04D-4902-BC12-0C5C83DB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E76-39BB-473B-9F7D-DD0F6EDA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E7E-E0FC-4CB2-AA92-5EE738DE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03D-F42A-40DF-AA61-22E7B5DD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929-A923-4377-B1FB-B0F81803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2A2-8A53-4D9A-B4BA-B5BB5471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9A5-E6DF-4769-9550-D63CF04E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546-18B7-4FDB-88DE-33CD6944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667-9C0C-42A0-A8E8-E436BC11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E3A9-0C8F-402D-8A1A-3BB680AF7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F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aleb Mur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correct. Hands over the head is the best method for right now. What about in ten years? Will it still be the best? I’ll follow up on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ook faster to blow up the balloon when they were standing than it did when they were on their kne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Causes of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people I don’t they took it seriously. I might have not measure all the balloons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uld probably make them run longer than a gy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p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pent a couple days testing and a week meas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ike to thank Mr. Riffel for letting me do this. Mrs. Calderwood for watching us. My test subjects to for letting me test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" y="39654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352680" y="43243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200400" y="1600200"/>
            <a:ext cx="2417760" cy="1812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638680" y="3905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body position have on brea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ed to know which breathing method (hands on the knees, or hand behind the head). I heard from all my coaches to put your head. I really want to see which is better. I think it will be fun and interesting to find out. I will use the method that works best in basketball pract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thing keeps us alive. People usually said that putting your hands on your knees to breathe but its actually better to put yours hands over your h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at standing up is the best way for breat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 of ball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boy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gir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Ora sh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w in the ball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m run 2 down back d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w in the ball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variable; bod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variable;   same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variable; how much they r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                             1          2 up          3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lby                              49        54       39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ma H                           48        51      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ys                             60          52         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ylar                            42          50         51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yan                             48          46        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ra                              37          42         3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7:31:57Z</dcterms:created>
  <dc:creator>USD376</dc:creator>
  <dc:description/>
  <dc:language>en-US</dc:language>
  <cp:lastModifiedBy>USD376</cp:lastModifiedBy>
  <dcterms:modified xsi:type="dcterms:W3CDTF">2012-03-23T13:48:56Z</dcterms:modified>
  <cp:revision>4</cp:revision>
  <dc:subject/>
  <dc:title>Science Fair</dc:title>
</cp:coreProperties>
</file>